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gif" ContentType="image/gif"/>
  <Override PartName="/ppt/media/image29.png" ContentType="image/png"/>
  <Override PartName="/ppt/media/image39.png" ContentType="image/png"/>
  <Override PartName="/ppt/media/image22.jpeg" ContentType="image/jpeg"/>
  <Override PartName="/ppt/media/image6.gif" ContentType="image/gif"/>
  <Override PartName="/ppt/media/image9.png" ContentType="image/png"/>
  <Override PartName="/ppt/media/image18.gif" ContentType="image/gif"/>
  <Override PartName="/ppt/media/image60.gif" ContentType="image/gif"/>
  <Override PartName="/ppt/media/image58.jpeg" ContentType="image/jpeg"/>
  <Override PartName="/ppt/media/image20.gif" ContentType="image/gif"/>
  <Override PartName="/ppt/media/image11.png" ContentType="image/png"/>
  <Override PartName="/ppt/media/image42.gif" ContentType="image/gif"/>
  <Override PartName="/ppt/media/image5.png" ContentType="image/png"/>
  <Override PartName="/ppt/media/image14.gif" ContentType="image/gif"/>
  <Override PartName="/ppt/media/image2.gif" ContentType="image/gif"/>
  <Override PartName="/ppt/media/image25.png" ContentType="image/png"/>
  <Override PartName="/ppt/media/image32.gif" ContentType="image/gif"/>
  <Override PartName="/ppt/media/image4.png" ContentType="image/png"/>
  <Override PartName="/ppt/media/image61.gif" ContentType="image/gif"/>
  <Override PartName="/ppt/media/image52.png" ContentType="image/png"/>
  <Override PartName="/ppt/media/image50.jpeg" ContentType="image/jpeg"/>
  <Override PartName="/ppt/media/image12.png" ContentType="image/png"/>
  <Override PartName="/ppt/media/image24.png" ContentType="image/png"/>
  <Override PartName="/ppt/media/image16.gif" ContentType="image/gif"/>
  <Override PartName="/ppt/media/image51.png" ContentType="image/png"/>
  <Override PartName="/ppt/media/image3.gif" ContentType="image/gif"/>
  <Override PartName="/ppt/media/image15.gif" ContentType="image/gif"/>
  <Override PartName="/ppt/media/image28.jpeg" ContentType="image/jpeg"/>
  <Override PartName="/ppt/media/image27.gif" ContentType="image/gif"/>
  <Override PartName="/ppt/media/image21.png" ContentType="image/png"/>
  <Override PartName="/ppt/media/image1.jpeg" ContentType="image/jpeg"/>
  <Override PartName="/ppt/media/image57.png" ContentType="image/png"/>
  <Override PartName="/ppt/media/image54.gif" ContentType="image/gif"/>
  <Override PartName="/ppt/media/image13.jpeg" ContentType="image/jpeg"/>
  <Override PartName="/ppt/media/image41.gif" ContentType="image/gif"/>
  <Override PartName="/ppt/media/image44.png" ContentType="image/png"/>
  <Override PartName="/ppt/media/image19.gif" ContentType="image/gif"/>
  <Override PartName="/ppt/media/image7.gif" ContentType="image/gif"/>
  <Override PartName="/ppt/media/image17.gif" ContentType="image/gif"/>
  <Override PartName="/ppt/media/image23.jpeg" ContentType="image/jpeg"/>
  <Override PartName="/ppt/media/image8.png" ContentType="image/png"/>
  <Override PartName="/ppt/media/image10.gif" ContentType="image/gif"/>
  <Override PartName="/ppt/media/image47.gif" ContentType="image/gif"/>
  <Override PartName="/ppt/media/image26.jpeg" ContentType="image/jpeg"/>
  <Override PartName="/ppt/media/image30.png" ContentType="image/png"/>
  <Override PartName="/ppt/media/image37.jpeg" ContentType="image/jpeg"/>
  <Override PartName="/ppt/media/image31.png" ContentType="image/png"/>
  <Override PartName="/ppt/media/image33.png" ContentType="image/png"/>
  <Override PartName="/ppt/media/image53.png" ContentType="image/png"/>
  <Override PartName="/ppt/media/image56.jpeg" ContentType="image/jpeg"/>
  <Override PartName="/ppt/media/image34.gif" ContentType="image/gif"/>
  <Override PartName="/ppt/media/image35.gif" ContentType="image/gif"/>
  <Override PartName="/ppt/media/image36.png" ContentType="image/png"/>
  <Override PartName="/ppt/media/image38.gif" ContentType="image/gif"/>
  <Override PartName="/ppt/media/image40.png" ContentType="image/png"/>
  <Override PartName="/ppt/media/image43.png" ContentType="image/png"/>
  <Override PartName="/ppt/media/image45.jpeg" ContentType="image/jpeg"/>
  <Override PartName="/ppt/media/image55.gif" ContentType="image/gif"/>
  <Override PartName="/ppt/media/image46.jpeg" ContentType="image/jpeg"/>
  <Override PartName="/ppt/media/image48.gif" ContentType="image/gif"/>
  <Override PartName="/ppt/media/image4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58E-1715-4095-9F59-405588F0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C71-83CD-469D-A913-29BFF47A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9E1-FAC0-43C7-B069-21206DF1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677-690B-49BA-8354-CAD1EAEE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174-5D7B-4F74-AB42-19F20966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C9E-1950-4E44-AAF6-98B63ED9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781-C613-46FA-A333-0F9F789C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297-B275-406C-9043-9A78D4DE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16E-7298-44E6-8750-3CBB5EF4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202-5A58-4AC3-AFDA-606F2E21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37B-51D5-4B22-AB7B-95619E9B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C89-D5D8-4D71-9251-08F096E3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29BF-D6AF-481C-9707-F1E6CAABF7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://www.info.gov.hk/healthzone/exhibits/ahab001/images/ahaboo1_1_gif.gif" TargetMode="External"/><Relationship Id="rId3" Type="http://schemas.openxmlformats.org/officeDocument/2006/relationships/image" Target="../media/image40.png"/><Relationship Id="rId4" Type="http://schemas.openxmlformats.org/officeDocument/2006/relationships/hyperlink" Target="http://www.info.gov.hk/healthzone/exhibits/ahab001/images/ahaboo1_1_gif.gif" TargetMode="External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o5.163.com/sinbeta/campus/newcenter.htm" TargetMode="External"/><Relationship Id="rId2" Type="http://schemas.openxmlformats.org/officeDocument/2006/relationships/image" Target="../media/image41.gif"/><Relationship Id="rId3" Type="http://schemas.openxmlformats.org/officeDocument/2006/relationships/hyperlink" Target="http://go5.163.com/sinbeta/campus/newcenter.htm" TargetMode="External"/><Relationship Id="rId4" Type="http://schemas.openxmlformats.org/officeDocument/2006/relationships/image" Target="../media/image41.gif"/><Relationship Id="rId5" Type="http://schemas.openxmlformats.org/officeDocument/2006/relationships/hyperlink" Target="http://go5.163.com/sinbeta/campus/newcenter.htm" TargetMode="External"/><Relationship Id="rId6" Type="http://schemas.openxmlformats.org/officeDocument/2006/relationships/image" Target="../media/image41.gif"/><Relationship Id="rId7" Type="http://schemas.openxmlformats.org/officeDocument/2006/relationships/hyperlink" Target="http://go5.163.com/sinbeta/campus/newcenter.htm" TargetMode="External"/><Relationship Id="rId8" Type="http://schemas.openxmlformats.org/officeDocument/2006/relationships/image" Target="../media/image41.gif"/><Relationship Id="rId9" Type="http://schemas.openxmlformats.org/officeDocument/2006/relationships/hyperlink" Target="http://go5.163.com/sinbeta/campus/newcenter.htm" TargetMode="External"/><Relationship Id="rId10" Type="http://schemas.openxmlformats.org/officeDocument/2006/relationships/image" Target="../media/image41.gif"/><Relationship Id="rId11" Type="http://schemas.openxmlformats.org/officeDocument/2006/relationships/hyperlink" Target="http://go5.163.com/sinbeta/campus/newcenter.htm" TargetMode="External"/><Relationship Id="rId12" Type="http://schemas.openxmlformats.org/officeDocument/2006/relationships/image" Target="../media/image41.gif"/><Relationship Id="rId13" Type="http://schemas.openxmlformats.org/officeDocument/2006/relationships/hyperlink" Target="http://go5.163.com/sinbeta/campus/newcenter.htm" TargetMode="External"/><Relationship Id="rId14" Type="http://schemas.openxmlformats.org/officeDocument/2006/relationships/image" Target="../media/image41.gif"/><Relationship Id="rId15" Type="http://schemas.openxmlformats.org/officeDocument/2006/relationships/hyperlink" Target="http://go5.163.com/sinbeta/report.htm" TargetMode="External"/><Relationship Id="rId16" Type="http://schemas.openxmlformats.org/officeDocument/2006/relationships/image" Target="../media/image42.gif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o5.163.com/sinbeta/report.htm" TargetMode="External"/><Relationship Id="rId2" Type="http://schemas.openxmlformats.org/officeDocument/2006/relationships/image" Target="../media/image42.gif"/><Relationship Id="rId3" Type="http://schemas.openxmlformats.org/officeDocument/2006/relationships/hyperlink" Target="http://go5.163.com/sinbeta/campus/newcenter.htm" TargetMode="External"/><Relationship Id="rId4" Type="http://schemas.openxmlformats.org/officeDocument/2006/relationships/image" Target="../media/image41.gif"/><Relationship Id="rId5" Type="http://schemas.openxmlformats.org/officeDocument/2006/relationships/hyperlink" Target="http://go5.163.com/sinbeta/campus/newcenter.htm" TargetMode="External"/><Relationship Id="rId6" Type="http://schemas.openxmlformats.org/officeDocument/2006/relationships/image" Target="../media/image41.gif"/><Relationship Id="rId7" Type="http://schemas.openxmlformats.org/officeDocument/2006/relationships/hyperlink" Target="http://go5.163.com/sinbeta/campus/newcenter.htm" TargetMode="External"/><Relationship Id="rId8" Type="http://schemas.openxmlformats.org/officeDocument/2006/relationships/image" Target="../media/image41.gif"/><Relationship Id="rId9" Type="http://schemas.openxmlformats.org/officeDocument/2006/relationships/hyperlink" Target="http://go5.163.com/sinbeta/campus/newcenter.htm" TargetMode="External"/><Relationship Id="rId10" Type="http://schemas.openxmlformats.org/officeDocument/2006/relationships/image" Target="../media/image41.gif"/><Relationship Id="rId11" Type="http://schemas.openxmlformats.org/officeDocument/2006/relationships/hyperlink" Target="http://go5.163.com/sinbeta/campus/newcenter.htm" TargetMode="External"/><Relationship Id="rId12" Type="http://schemas.openxmlformats.org/officeDocument/2006/relationships/image" Target="../media/image41.gif"/><Relationship Id="rId13" Type="http://schemas.openxmlformats.org/officeDocument/2006/relationships/hyperlink" Target="http://go5.163.com/sinbeta/campus/newcenter.htm" TargetMode="External"/><Relationship Id="rId14" Type="http://schemas.openxmlformats.org/officeDocument/2006/relationships/image" Target="../media/image41.gif"/><Relationship Id="rId15" Type="http://schemas.openxmlformats.org/officeDocument/2006/relationships/hyperlink" Target="http://go5.163.com/sinbeta/campus/newcenter.htm" TargetMode="External"/><Relationship Id="rId16" Type="http://schemas.openxmlformats.org/officeDocument/2006/relationships/image" Target="../media/image41.gif"/><Relationship Id="rId17" Type="http://schemas.openxmlformats.org/officeDocument/2006/relationships/hyperlink" Target="http://go5.163.com/sinbeta/campus/newcenter.htm" TargetMode="External"/><Relationship Id="rId18" Type="http://schemas.openxmlformats.org/officeDocument/2006/relationships/image" Target="../media/image41.gif"/><Relationship Id="rId19" Type="http://schemas.openxmlformats.org/officeDocument/2006/relationships/hyperlink" Target="http://go5.163.com/sinbeta/campus/newcenter.htm" TargetMode="External"/><Relationship Id="rId20" Type="http://schemas.openxmlformats.org/officeDocument/2006/relationships/image" Target="../media/image41.gi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0.203/ABCD/BAL02074%5B1%5D.JP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image" Target="../media/image12.png"/><Relationship Id="rId4" Type="http://schemas.openxmlformats.org/officeDocument/2006/relationships/image" Target="../media/image49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image" Target="../media/image54.gif"/><Relationship Id="rId8" Type="http://schemas.openxmlformats.org/officeDocument/2006/relationships/image" Target="../media/image55.gif"/><Relationship Id="rId9" Type="http://schemas.openxmlformats.org/officeDocument/2006/relationships/image" Target="../media/image56.jpeg"/><Relationship Id="rId10" Type="http://schemas.openxmlformats.org/officeDocument/2006/relationships/image" Target="../media/image55.gif"/><Relationship Id="rId11" Type="http://schemas.openxmlformats.org/officeDocument/2006/relationships/image" Target="../media/image55.gif"/><Relationship Id="rId12" Type="http://schemas.openxmlformats.org/officeDocument/2006/relationships/image" Target="../media/image55.gif"/><Relationship Id="rId13" Type="http://schemas.openxmlformats.org/officeDocument/2006/relationships/image" Target="../media/image55.gif"/><Relationship Id="rId14" Type="http://schemas.openxmlformats.org/officeDocument/2006/relationships/image" Target="../media/image55.gif"/><Relationship Id="rId15" Type="http://schemas.openxmlformats.org/officeDocument/2006/relationships/image" Target="../media/image55.gif"/><Relationship Id="rId16" Type="http://schemas.openxmlformats.org/officeDocument/2006/relationships/image" Target="../media/image55.gif"/><Relationship Id="rId17" Type="http://schemas.openxmlformats.org/officeDocument/2006/relationships/image" Target="../media/image55.gif"/><Relationship Id="rId18" Type="http://schemas.openxmlformats.org/officeDocument/2006/relationships/image" Target="../media/image55.gif"/><Relationship Id="rId19" Type="http://schemas.openxmlformats.org/officeDocument/2006/relationships/image" Target="../media/image55.gif"/><Relationship Id="rId20" Type="http://schemas.openxmlformats.org/officeDocument/2006/relationships/image" Target="../media/image55.gif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gi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gif"/><Relationship Id="rId3" Type="http://schemas.openxmlformats.org/officeDocument/2006/relationships/image" Target="../media/image59.gif"/><Relationship Id="rId4" Type="http://schemas.openxmlformats.org/officeDocument/2006/relationships/image" Target="../media/image59.gif"/><Relationship Id="rId5" Type="http://schemas.openxmlformats.org/officeDocument/2006/relationships/image" Target="../media/image60.gif"/><Relationship Id="rId6" Type="http://schemas.openxmlformats.org/officeDocument/2006/relationships/image" Target="../media/image61.gi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image" Target="../media/image54.gif"/><Relationship Id="rId8" Type="http://schemas.openxmlformats.org/officeDocument/2006/relationships/image" Target="../media/image55.gif"/><Relationship Id="rId9" Type="http://schemas.openxmlformats.org/officeDocument/2006/relationships/image" Target="../media/image56.jpeg"/><Relationship Id="rId10" Type="http://schemas.openxmlformats.org/officeDocument/2006/relationships/image" Target="../media/image55.gif"/><Relationship Id="rId11" Type="http://schemas.openxmlformats.org/officeDocument/2006/relationships/image" Target="../media/image55.gif"/><Relationship Id="rId12" Type="http://schemas.openxmlformats.org/officeDocument/2006/relationships/image" Target="../media/image55.gif"/><Relationship Id="rId13" Type="http://schemas.openxmlformats.org/officeDocument/2006/relationships/image" Target="../media/image55.gif"/><Relationship Id="rId14" Type="http://schemas.openxmlformats.org/officeDocument/2006/relationships/image" Target="../media/image55.gif"/><Relationship Id="rId15" Type="http://schemas.openxmlformats.org/officeDocument/2006/relationships/image" Target="../media/image55.gif"/><Relationship Id="rId16" Type="http://schemas.openxmlformats.org/officeDocument/2006/relationships/image" Target="../media/image55.gif"/><Relationship Id="rId17" Type="http://schemas.openxmlformats.org/officeDocument/2006/relationships/image" Target="../media/image55.gif"/><Relationship Id="rId18" Type="http://schemas.openxmlformats.org/officeDocument/2006/relationships/image" Target="../media/image55.gif"/><Relationship Id="rId19" Type="http://schemas.openxmlformats.org/officeDocument/2006/relationships/image" Target="../media/image55.gif"/><Relationship Id="rId20" Type="http://schemas.openxmlformats.org/officeDocument/2006/relationships/image" Target="../media/image55.gif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" Target="slide17.xml"/><Relationship Id="rId5" Type="http://schemas.openxmlformats.org/officeDocument/2006/relationships/slide" Target="slide25.xml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8380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迎接青春的来临》        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------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主题班会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905120" y="3581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3352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28600" y="3962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371600" y="4724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57200" y="2514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209680" y="41148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895480" y="53341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609480" y="51814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8001000" y="5867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105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429000" cy="3306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405756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209680" y="685800"/>
            <a:ext cx="4648320" cy="838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858000" y="5562720"/>
            <a:ext cx="1295280" cy="1028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4400" y="2209680"/>
            <a:ext cx="1143000" cy="2288520"/>
          </a:xfrm>
          <a:prstGeom prst="rect">
            <a:avLst/>
          </a:prstGeom>
          <a:solidFill>
            <a:srgbClr val="ffadc8"/>
          </a:solidFill>
          <a:ln w="9360">
            <a:solidFill>
              <a:srgbClr val="ff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33"/>
                </a:solidFill>
                <a:latin typeface="隶书"/>
                <a:ea typeface="隶书"/>
              </a:rPr>
              <a:t>相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981080"/>
            <a:ext cx="464832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Times New Roman"/>
                <a:ea typeface="华文琥珀"/>
              </a:rPr>
              <a:t>沉重的包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4648320" cy="533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952880" y="3352680"/>
            <a:ext cx="1981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981080" y="27432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a600a6"/>
                </a:solidFill>
                <a:latin typeface="Times New Roman"/>
                <a:ea typeface="方正舒体"/>
              </a:rPr>
              <a:t>最近比较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22860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990033"/>
                </a:solidFill>
                <a:uFillTx/>
                <a:latin typeface="方正姚体"/>
                <a:ea typeface="方正姚体"/>
              </a:rPr>
              <a:t>同学们的烦恼有以下几个方面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1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、学习上的烦恼（占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41.3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％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2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、与同学关系方面的烦恼（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23.7 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％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3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、与家长之间的烦恼（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14.7 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％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4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、与老师相处的烦恼（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9.6 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％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5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、其他方面的烦恼（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10.7 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％</a:t>
            </a:r>
            <a:r>
              <a:rPr b="1" lang="zh-CN" sz="4400" spc="-1" strike="noStrike">
                <a:solidFill>
                  <a:srgbClr val="990033"/>
                </a:solidFill>
                <a:latin typeface="方正姚体"/>
                <a:ea typeface="方正姚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瓜獵琄戳﹚竡">
            <a:hlinkClick r:id="rId2"/>
          </p:cNvPr>
          <p:cNvPicPr/>
          <p:nvPr/>
        </p:nvPicPr>
        <p:blipFill>
          <a:blip r:embed="rId3"/>
          <a:srcRect l="8182" t="40141" r="8182" b="17761"/>
          <a:stretch/>
        </p:blipFill>
        <p:spPr>
          <a:xfrm>
            <a:off x="0" y="1219320"/>
            <a:ext cx="4419720" cy="5638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14400" y="9907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Times New Roman"/>
                <a:ea typeface="隶书"/>
              </a:rPr>
              <a:t>一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  <a:ea typeface="隶书"/>
              </a:rPr>
              <a:t>.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  <a:ea typeface="隶书"/>
              </a:rPr>
              <a:t>什么是青春期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  <a:ea typeface="隶书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20574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青春期是由儿童发育到成人的过渡时期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其年龄范围在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10∽20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岁左右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青春期是生长发育的最后阶段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也是决定人的体格、素质、智力水平等的关键时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瓜獵琄戳﹚竡">
            <a:hlinkClick r:id="rId4"/>
          </p:cNvPr>
          <p:cNvPicPr/>
          <p:nvPr/>
        </p:nvPicPr>
        <p:blipFill>
          <a:blip r:embed="rId5"/>
          <a:srcRect l="0" t="7395" r="0" b="76701"/>
          <a:stretch/>
        </p:blipFill>
        <p:spPr>
          <a:xfrm>
            <a:off x="0" y="304920"/>
            <a:ext cx="9144000" cy="17524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3429000"/>
            <a:ext cx="799920" cy="789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57200"/>
            <a:ext cx="800280" cy="789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14800" y="3124080"/>
            <a:ext cx="800280" cy="789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71600" y="609480"/>
            <a:ext cx="800280" cy="789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05120" y="204156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方正姚体"/>
                <a:ea typeface="方正姚体"/>
              </a:rPr>
              <a:t>青春期有那些特点</a:t>
            </a:r>
            <a:r>
              <a:rPr b="1" lang="zh-CN" sz="4000" spc="-1" strike="noStrike">
                <a:solidFill>
                  <a:srgbClr val="00cc00"/>
                </a:solidFill>
                <a:latin typeface="方正姚体"/>
                <a:ea typeface="方正姚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3032280"/>
            <a:ext cx="7391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方正姚体"/>
                <a:ea typeface="方正姚体"/>
              </a:rPr>
              <a:t>由于神经系统和内分泌的影响，人体的形态和功能会出现显著的变化，使青春期的发育带有人体其他阶段和时期所没有的特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52480" y="5715000"/>
            <a:ext cx="800280" cy="789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3124080"/>
            <a:ext cx="800280" cy="789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943600" y="5638680"/>
            <a:ext cx="800280" cy="789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590920" y="685800"/>
            <a:ext cx="388620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9144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2511360"/>
            <a:ext cx="6705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方正姚体"/>
              </a:rPr>
              <a:t>（一）、身体的外形发生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方正姚体"/>
              </a:rPr>
              <a:t>（二）、内脏机能健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方正姚体"/>
              </a:rPr>
              <a:t>（三）、生殖器官逐步发育成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143000"/>
            <a:ext cx="3962160" cy="914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5562720"/>
            <a:ext cx="800280" cy="788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5562720"/>
            <a:ext cx="800280" cy="788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52480" y="5562720"/>
            <a:ext cx="800280" cy="788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9480" y="5562720"/>
            <a:ext cx="800280" cy="788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33520" y="1371600"/>
            <a:ext cx="79992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238880" y="1447920"/>
            <a:ext cx="800280" cy="788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848720" y="5562720"/>
            <a:ext cx="799920" cy="788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934320" y="5562720"/>
            <a:ext cx="799920" cy="788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91320" y="5562720"/>
            <a:ext cx="799920" cy="788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83800" y="3089160"/>
            <a:ext cx="34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BCD\BAL02074[1]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809880" y="2895480"/>
            <a:ext cx="1533600" cy="1752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95480" y="44197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 u="sng">
                <a:solidFill>
                  <a:srgbClr val="ff6600"/>
                </a:solidFill>
                <a:uFillTx/>
                <a:latin typeface="Times New Roman"/>
                <a:ea typeface="幼圆"/>
              </a:rPr>
              <a:t>青</a:t>
            </a:r>
            <a:r>
              <a:rPr b="1" i="1" lang="zh-CN" sz="7200" spc="-1" strike="noStrike" u="sng">
                <a:solidFill>
                  <a:srgbClr val="ffff00"/>
                </a:solidFill>
                <a:uFillTx/>
                <a:latin typeface="Times New Roman"/>
                <a:ea typeface="幼圆"/>
              </a:rPr>
              <a:t>春</a:t>
            </a:r>
            <a:r>
              <a:rPr b="1" i="1" lang="zh-CN" sz="7200" spc="-1" strike="noStrike" u="sng">
                <a:solidFill>
                  <a:srgbClr val="ff0066"/>
                </a:solidFill>
                <a:uFillTx/>
                <a:latin typeface="Times New Roman"/>
                <a:ea typeface="幼圆"/>
              </a:rPr>
              <a:t>的</a:t>
            </a:r>
            <a:r>
              <a:rPr b="1" i="1" lang="zh-CN" sz="7200" spc="-1" strike="noStrike" u="sng">
                <a:solidFill>
                  <a:srgbClr val="a600a6"/>
                </a:solidFill>
                <a:uFillTx/>
                <a:latin typeface="Times New Roman"/>
                <a:ea typeface="幼圆"/>
              </a:rPr>
              <a:t>来</a:t>
            </a:r>
            <a:r>
              <a:rPr b="1" i="1" lang="zh-CN" sz="7200" spc="-1" strike="noStrike" u="sng">
                <a:solidFill>
                  <a:srgbClr val="ccff33"/>
                </a:solidFill>
                <a:uFillTx/>
                <a:latin typeface="Times New Roman"/>
                <a:ea typeface="幼圆"/>
              </a:rPr>
              <a:t>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267080" y="762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33520" y="4443480"/>
            <a:ext cx="2057400" cy="1700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45720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 u="sng" baseline="-4000">
                <a:solidFill>
                  <a:srgbClr val="ff5050"/>
                </a:solidFill>
                <a:uFillTx/>
                <a:latin typeface="Times New Roman"/>
                <a:ea typeface="华文行楷"/>
              </a:rPr>
              <a:t>迎接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676520" y="42670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5590" t="37334" r="0" b="34935"/>
          <a:stretch/>
        </p:blipFill>
        <p:spPr>
          <a:xfrm>
            <a:off x="-19080" y="2209680"/>
            <a:ext cx="9163080" cy="4648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rcRect l="5590" t="4800" r="0" b="84003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2960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0" t="0" r="0" b="8999"/>
          <a:stretch/>
        </p:blipFill>
        <p:spPr>
          <a:xfrm>
            <a:off x="0" y="3581280"/>
            <a:ext cx="4735440" cy="3276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600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60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rcRect l="0" t="0" r="0" b="8999"/>
          <a:stretch/>
        </p:blipFill>
        <p:spPr>
          <a:xfrm>
            <a:off x="4724280" y="3581280"/>
            <a:ext cx="4419720" cy="3276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920" y="250920"/>
            <a:ext cx="883908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2ec00"/>
                </a:solidFill>
                <a:latin typeface="黑体"/>
                <a:ea typeface="黑体"/>
              </a:rPr>
              <a:t>青春期心理特征有那些</a:t>
            </a:r>
            <a:r>
              <a:rPr b="1" lang="zh-CN" sz="3400" spc="-1" strike="noStrike">
                <a:solidFill>
                  <a:srgbClr val="f2ec00"/>
                </a:solidFill>
                <a:latin typeface="黑体"/>
                <a:ea typeface="黑体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2ec00"/>
                </a:solidFill>
                <a:latin typeface="黑体"/>
                <a:ea typeface="黑体"/>
              </a:rPr>
              <a:t>生理变化是心理变化的物质基础。随着生理的变化，以及环境的影响，教育的作用，心理发展产生许多不同特点</a:t>
            </a:r>
            <a:r>
              <a:rPr b="1" lang="zh-CN" sz="3400" spc="-1" strike="noStrike">
                <a:solidFill>
                  <a:srgbClr val="f2ec00"/>
                </a:solidFill>
                <a:latin typeface="黑体"/>
                <a:ea typeface="黑体"/>
              </a:rPr>
              <a:t>,</a:t>
            </a:r>
            <a:r>
              <a:rPr b="1" lang="zh-CN" sz="3400" spc="-1" strike="noStrike">
                <a:solidFill>
                  <a:srgbClr val="f2ec00"/>
                </a:solidFill>
                <a:latin typeface="黑体"/>
                <a:ea typeface="黑体"/>
              </a:rPr>
              <a:t>青春期作为心理迅速走向成熟而又未完全成熟的过渡期，心理特征如下：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2ec00"/>
                </a:solidFill>
                <a:latin typeface="黑体"/>
                <a:ea typeface="黑体"/>
              </a:rPr>
              <a:t>（一）智力发展显著</a:t>
            </a:r>
            <a:r>
              <a:rPr b="1" lang="zh-CN" sz="3400" spc="-1" strike="noStrike">
                <a:solidFill>
                  <a:srgbClr val="f2ec00"/>
                </a:solidFill>
                <a:latin typeface="黑体"/>
                <a:ea typeface="黑体"/>
              </a:rPr>
              <a:t>,</a:t>
            </a:r>
            <a:r>
              <a:rPr b="1" lang="zh-CN" sz="3400" spc="-1" strike="noStrike">
                <a:solidFill>
                  <a:srgbClr val="f2ec00"/>
                </a:solidFill>
                <a:latin typeface="黑体"/>
                <a:ea typeface="黑体"/>
              </a:rPr>
              <a:t>感觉、知觉、记忆、思维能力不断增强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2ec00"/>
                </a:solidFill>
                <a:latin typeface="黑体"/>
                <a:ea typeface="黑体"/>
              </a:rPr>
              <a:t>（二）自我意识显著增强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2ec00"/>
                </a:solidFill>
                <a:latin typeface="黑体"/>
                <a:ea typeface="黑体"/>
              </a:rPr>
              <a:t>（三）心里向成熟过渡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5" action="ppaction://hlinksldjump"/>
          </p:cNvPr>
          <p:cNvSpPr/>
          <p:nvPr/>
        </p:nvSpPr>
        <p:spPr>
          <a:xfrm>
            <a:off x="7010280" y="5943600"/>
            <a:ext cx="1676520" cy="304920"/>
          </a:xfrm>
          <a:custGeom>
            <a:avLst/>
            <a:gdLst>
              <a:gd name="textAreaLeft" fmla="*/ 19440 w 1676520"/>
              <a:gd name="textAreaRight" fmla="*/ 1657080 w 1676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47" y="1400"/>
                </a:lnTo>
                <a:lnTo>
                  <a:pt x="1400" y="140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47" y="20200"/>
                </a:lnTo>
                <a:lnTo>
                  <a:pt x="117247" y="140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47" y="2020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480" y="762120"/>
            <a:ext cx="8305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如何克服紧张心理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首先要克服怕字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,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从心理上去掉社交中的自卑感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,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并树立自强、自信，自立的自我精神，带人接物主动、大方自然。时间长了就不再害怕。还要注意遇事提前做好准备，就不会过分紧张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3800" y="57150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762120"/>
            <a:ext cx="8305920" cy="224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990033"/>
                </a:solidFill>
                <a:latin typeface="华文行楷"/>
                <a:ea typeface="华文行楷"/>
              </a:rPr>
              <a:t>、忧郁        </a:t>
            </a:r>
            <a:r>
              <a:rPr b="1" lang="zh-CN" sz="4800" spc="-1" strike="noStrike">
                <a:solidFill>
                  <a:srgbClr val="990033"/>
                </a:solidFill>
                <a:latin typeface="华文行楷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990033"/>
                </a:solidFill>
                <a:latin typeface="华文行楷"/>
                <a:ea typeface="华文行楷"/>
              </a:rPr>
              <a:t>、狭隘    </a:t>
            </a:r>
            <a:r>
              <a:rPr b="1" lang="zh-CN" sz="4800" spc="-1" strike="noStrike">
                <a:solidFill>
                  <a:srgbClr val="990033"/>
                </a:solidFill>
                <a:latin typeface="华文行楷"/>
                <a:ea typeface="华文行楷"/>
              </a:rPr>
              <a:t>3</a:t>
            </a:r>
            <a:r>
              <a:rPr b="1" lang="zh-CN" sz="4800" spc="-1" strike="noStrike">
                <a:solidFill>
                  <a:srgbClr val="990033"/>
                </a:solidFill>
                <a:latin typeface="华文行楷"/>
                <a:ea typeface="华文行楷"/>
              </a:rPr>
              <a:t>、嫉妒       </a:t>
            </a:r>
            <a:r>
              <a:rPr b="1" lang="zh-CN" sz="4800" spc="-1" strike="noStrike">
                <a:solidFill>
                  <a:srgbClr val="990033"/>
                </a:solidFill>
                <a:latin typeface="华文行楷"/>
                <a:ea typeface="华文行楷"/>
              </a:rPr>
              <a:t>4</a:t>
            </a:r>
            <a:r>
              <a:rPr b="1" lang="zh-CN" sz="4800" spc="-1" strike="noStrike">
                <a:solidFill>
                  <a:srgbClr val="990033"/>
                </a:solidFill>
                <a:latin typeface="华文行楷"/>
                <a:ea typeface="华文行楷"/>
              </a:rPr>
              <a:t>、惊恐       </a:t>
            </a:r>
            <a:r>
              <a:rPr b="1" lang="zh-CN" sz="4800" spc="-1" strike="noStrike">
                <a:solidFill>
                  <a:srgbClr val="990033"/>
                </a:solidFill>
                <a:latin typeface="华文行楷"/>
                <a:ea typeface="华文行楷"/>
              </a:rPr>
              <a:t>5</a:t>
            </a:r>
            <a:r>
              <a:rPr b="1" lang="zh-CN" sz="4800" spc="-1" strike="noStrike">
                <a:solidFill>
                  <a:srgbClr val="990033"/>
                </a:solidFill>
                <a:latin typeface="华文行楷"/>
                <a:ea typeface="华文行楷"/>
              </a:rPr>
              <a:t>、残暴     </a:t>
            </a:r>
            <a:r>
              <a:rPr b="1" lang="zh-CN" sz="4800" spc="-1" strike="noStrike">
                <a:solidFill>
                  <a:srgbClr val="990033"/>
                </a:solidFill>
                <a:latin typeface="华文行楷"/>
                <a:ea typeface="华文行楷"/>
              </a:rPr>
              <a:t>6</a:t>
            </a:r>
            <a:r>
              <a:rPr b="1" lang="zh-CN" sz="4800" spc="-1" strike="noStrike">
                <a:solidFill>
                  <a:srgbClr val="990033"/>
                </a:solidFill>
                <a:latin typeface="华文行楷"/>
                <a:ea typeface="华文行楷"/>
              </a:rPr>
              <a:t>、敏感 </a:t>
            </a:r>
            <a:r>
              <a:rPr b="1" lang="zh-CN" sz="4800" spc="-1" strike="noStrike">
                <a:solidFill>
                  <a:srgbClr val="990033"/>
                </a:solidFill>
                <a:latin typeface="华文行楷"/>
                <a:ea typeface="华文行楷"/>
              </a:rPr>
              <a:t>7</a:t>
            </a:r>
            <a:r>
              <a:rPr b="1" lang="zh-CN" sz="4800" spc="-1" strike="noStrike">
                <a:solidFill>
                  <a:srgbClr val="990033"/>
                </a:solidFill>
                <a:latin typeface="华文行楷"/>
                <a:ea typeface="华文行楷"/>
              </a:rPr>
              <a:t>、自卑       </a:t>
            </a:r>
            <a:r>
              <a:rPr b="1" lang="zh-CN" sz="4800" spc="-1" strike="noStrike">
                <a:solidFill>
                  <a:srgbClr val="990033"/>
                </a:solidFill>
                <a:latin typeface="华文行楷"/>
                <a:ea typeface="华文行楷"/>
              </a:rPr>
              <a:t>8</a:t>
            </a:r>
            <a:r>
              <a:rPr b="1" lang="zh-CN" sz="4800" spc="-1" strike="noStrike">
                <a:solidFill>
                  <a:srgbClr val="990033"/>
                </a:solidFill>
                <a:latin typeface="华文行楷"/>
                <a:ea typeface="华文行楷"/>
              </a:rPr>
              <a:t>、易冲动 等不健康心理，我们要尽力避免它们的影响。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7621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09230"/>
                </a:solidFill>
                <a:latin typeface="Times New Roman"/>
                <a:ea typeface="方正舒体"/>
              </a:rPr>
              <a:t>易产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21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心理压力是指外界各种刺激对身心所引起的不良影响</a:t>
            </a: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这里介绍一种</a:t>
            </a: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3R</a:t>
            </a: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原则：</a:t>
            </a: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、放松（</a:t>
            </a: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Relaxation</a:t>
            </a: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）</a:t>
            </a: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、缩减（</a:t>
            </a: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Reduction </a:t>
            </a: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）</a:t>
            </a: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3</a:t>
            </a: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、重整（</a:t>
            </a: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Reorientation</a:t>
            </a:r>
            <a:r>
              <a:rPr b="1" lang="zh-CN" sz="3200" spc="-1" strike="noStrike">
                <a:solidFill>
                  <a:srgbClr val="990033"/>
                </a:solidFill>
                <a:latin typeface="方正姚体"/>
                <a:ea typeface="方正姚体"/>
              </a:rPr>
              <a:t>）即减少压力源的机会，放松自己，重新调整要求或期望，三者结合起来，在已有的正面压力、自发压力与过渡压力之间寻求一个平衡点。在日常生活中，从小事着手来消除紧张情绪，缓解压力。另外，压力是前进的动力。适当的压力对我们的发展是有利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617220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52480" y="19051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2819520" cy="4259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4267080" cy="3353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9246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80880" y="914400"/>
            <a:ext cx="83822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方正姚体"/>
                <a:ea typeface="方正姚体"/>
              </a:rPr>
              <a:t>防止厌倦的做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方正姚体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990033"/>
                </a:solidFill>
                <a:latin typeface="方正姚体"/>
                <a:ea typeface="方正姚体"/>
              </a:rPr>
              <a:t>、热爱学习→主观上排除对学习的抵触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方正姚体"/>
                <a:ea typeface="方正姚体"/>
              </a:rPr>
              <a:t>2</a:t>
            </a:r>
            <a:r>
              <a:rPr b="1" lang="zh-CN" sz="3600" spc="-1" strike="noStrike">
                <a:solidFill>
                  <a:srgbClr val="990033"/>
                </a:solidFill>
                <a:latin typeface="方正姚体"/>
                <a:ea typeface="方正姚体"/>
              </a:rPr>
              <a:t>、积极思考→变消极为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方正姚体"/>
                <a:ea typeface="方正姚体"/>
              </a:rPr>
              <a:t>3</a:t>
            </a:r>
            <a:r>
              <a:rPr b="1" lang="zh-CN" sz="3600" spc="-1" strike="noStrike">
                <a:solidFill>
                  <a:srgbClr val="990033"/>
                </a:solidFill>
                <a:latin typeface="方正姚体"/>
                <a:ea typeface="方正姚体"/>
              </a:rPr>
              <a:t>、坚持运动→保持精力充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方正姚体"/>
                <a:ea typeface="方正姚体"/>
              </a:rPr>
              <a:t>4</a:t>
            </a:r>
            <a:r>
              <a:rPr b="1" lang="zh-CN" sz="3600" spc="-1" strike="noStrike">
                <a:solidFill>
                  <a:srgbClr val="990033"/>
                </a:solidFill>
                <a:latin typeface="方正姚体"/>
                <a:ea typeface="方正姚体"/>
              </a:rPr>
              <a:t>、注意饮食→保证身体健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方正姚体"/>
                <a:ea typeface="方正姚体"/>
              </a:rPr>
              <a:t>5</a:t>
            </a:r>
            <a:r>
              <a:rPr b="1" lang="zh-CN" sz="3600" spc="-1" strike="noStrike">
                <a:solidFill>
                  <a:srgbClr val="990033"/>
                </a:solidFill>
                <a:latin typeface="方正姚体"/>
                <a:ea typeface="方正姚体"/>
              </a:rPr>
              <a:t>、扩大交往→获取间接经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方正姚体"/>
                <a:ea typeface="方正姚体"/>
              </a:rPr>
              <a:t>6</a:t>
            </a:r>
            <a:r>
              <a:rPr b="1" lang="zh-CN" sz="3600" spc="-1" strike="noStrike">
                <a:solidFill>
                  <a:srgbClr val="990033"/>
                </a:solidFill>
                <a:latin typeface="方正姚体"/>
                <a:ea typeface="方正姚体"/>
              </a:rPr>
              <a:t>、适当放松→转移对压力的注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914400" y="1596960"/>
            <a:ext cx="7620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怎样解决自己与他人关系不好的现状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要多从自己身上找原因：自己是否有自以为是</a:t>
            </a: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,</a:t>
            </a: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心胸狭窄</a:t>
            </a: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,</a:t>
            </a: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妒忌心重等缺点。如果有，必须改正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5867640" cy="1676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324480" y="304920"/>
            <a:ext cx="1722600" cy="938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246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590544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403848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0" y="495288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0" y="129528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0" y="220968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0" y="312408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2514600" y="4495680"/>
            <a:ext cx="3352680" cy="1828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3886200" y="18288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7696080" y="18288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7086600" y="14479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6477120" y="175248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715000" y="152388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105520" y="175248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4495680" y="16002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3429000" y="16002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7"/>
          <a:stretch/>
        </p:blipFill>
        <p:spPr>
          <a:xfrm>
            <a:off x="2743200" y="18288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8"/>
          <a:stretch/>
        </p:blipFill>
        <p:spPr>
          <a:xfrm>
            <a:off x="2057400" y="152388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9"/>
          <a:stretch/>
        </p:blipFill>
        <p:spPr>
          <a:xfrm>
            <a:off x="1447920" y="175248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0"/>
          <a:stretch/>
        </p:blipFill>
        <p:spPr>
          <a:xfrm>
            <a:off x="838080" y="160020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304812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3172"/>
                </a:solidFill>
                <a:latin typeface="Rockwell Extra Bold"/>
              </a:rPr>
              <a:t>http://www.CCTV.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12968" t="58819" r="65576" b="244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15000" y="13644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6b600"/>
                </a:solidFill>
                <a:latin typeface="Times New Roman"/>
              </a:rPr>
              <a:t>散文朗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76320"/>
            <a:ext cx="5410080" cy="1099440"/>
          </a:xfrm>
          <a:prstGeom prst="rect">
            <a:avLst/>
          </a:prstGeom>
          <a:solidFill>
            <a:srgbClr val="fa3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青春的风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0" y="365760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0" y="548640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rcRect l="0" t="0" r="0" b="50019"/>
          <a:stretch/>
        </p:blipFill>
        <p:spPr>
          <a:xfrm>
            <a:off x="0" y="6391440"/>
            <a:ext cx="9144000" cy="46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990720" y="4495680"/>
            <a:ext cx="1752480" cy="1774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1066680" y="838080"/>
            <a:ext cx="1246320" cy="129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3276720" y="2819520"/>
            <a:ext cx="5029200" cy="3333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00400" y="914400"/>
            <a:ext cx="5410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a600a6"/>
                </a:solidFill>
                <a:latin typeface="黑体"/>
                <a:ea typeface="黑体"/>
              </a:rPr>
              <a:t>青春的诠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7772400" y="5181480"/>
            <a:ext cx="789120" cy="70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7696080" y="4267080"/>
            <a:ext cx="865440" cy="838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4"/>
          <a:stretch/>
        </p:blipFill>
        <p:spPr>
          <a:xfrm>
            <a:off x="7696080" y="3429000"/>
            <a:ext cx="789120" cy="914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443640" y="6093000"/>
            <a:ext cx="731880" cy="46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11280" y="6165720"/>
            <a:ext cx="731880" cy="468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7543800" y="6095880"/>
            <a:ext cx="731880" cy="468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304920" y="457200"/>
            <a:ext cx="1752480" cy="981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6095880" y="304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590544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403848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0" y="495288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0" y="129528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0" y="220968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0" y="312408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2514600" y="4495680"/>
            <a:ext cx="3352680" cy="1828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3932280" y="18288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0"/>
          <a:stretch/>
        </p:blipFill>
        <p:spPr>
          <a:xfrm>
            <a:off x="7696080" y="18288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1"/>
          <a:stretch/>
        </p:blipFill>
        <p:spPr>
          <a:xfrm>
            <a:off x="7086600" y="14479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2"/>
          <a:stretch/>
        </p:blipFill>
        <p:spPr>
          <a:xfrm>
            <a:off x="6477120" y="179856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3"/>
          <a:stretch/>
        </p:blipFill>
        <p:spPr>
          <a:xfrm>
            <a:off x="5715000" y="152388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4"/>
          <a:stretch/>
        </p:blipFill>
        <p:spPr>
          <a:xfrm>
            <a:off x="5105520" y="179856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5"/>
          <a:stretch/>
        </p:blipFill>
        <p:spPr>
          <a:xfrm>
            <a:off x="4495680" y="16002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6"/>
          <a:stretch/>
        </p:blipFill>
        <p:spPr>
          <a:xfrm>
            <a:off x="3429000" y="16002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7"/>
          <a:stretch/>
        </p:blipFill>
        <p:spPr>
          <a:xfrm>
            <a:off x="2743200" y="18288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8"/>
          <a:stretch/>
        </p:blipFill>
        <p:spPr>
          <a:xfrm>
            <a:off x="2057400" y="152388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9"/>
          <a:stretch/>
        </p:blipFill>
        <p:spPr>
          <a:xfrm>
            <a:off x="1447920" y="179856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0"/>
          <a:stretch/>
        </p:blipFill>
        <p:spPr>
          <a:xfrm>
            <a:off x="838080" y="160020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371600" y="30481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Rockwell Extra Bold"/>
              </a:rPr>
              <a:t>G</a:t>
            </a:r>
            <a:r>
              <a:rPr b="0" lang="en-US" sz="7200" spc="-1" strike="noStrike">
                <a:solidFill>
                  <a:srgbClr val="ff9933"/>
                </a:solidFill>
                <a:latin typeface="Rockwell Extra Bold"/>
              </a:rPr>
              <a:t>O</a:t>
            </a:r>
            <a:r>
              <a:rPr b="0" lang="en-US" sz="7200" spc="-1" strike="noStrike">
                <a:solidFill>
                  <a:srgbClr val="ffff00"/>
                </a:solidFill>
                <a:latin typeface="Rockwell Extra Bold"/>
              </a:rPr>
              <a:t>O</a:t>
            </a:r>
            <a:r>
              <a:rPr b="0" lang="en-US" sz="7200" spc="-1" strike="noStrike">
                <a:solidFill>
                  <a:srgbClr val="17e517"/>
                </a:solidFill>
                <a:latin typeface="Rockwell Extra Bold"/>
              </a:rPr>
              <a:t>D</a:t>
            </a:r>
            <a:r>
              <a:rPr b="0" lang="en-US" sz="7200" spc="-1" strike="noStrike">
                <a:solidFill>
                  <a:srgbClr val="aca9e1"/>
                </a:solidFill>
                <a:latin typeface="Rockwell Extra Bold"/>
              </a:rPr>
              <a:t>B</a:t>
            </a:r>
            <a:r>
              <a:rPr b="0" lang="en-US" sz="7200" spc="-1" strike="noStrike">
                <a:solidFill>
                  <a:srgbClr val="3333cc"/>
                </a:solidFill>
                <a:latin typeface="Rockwell Extra Bold"/>
              </a:rPr>
              <a:t>Y</a:t>
            </a:r>
            <a:r>
              <a:rPr b="0" lang="en-US" sz="7200" spc="-1" strike="noStrike">
                <a:solidFill>
                  <a:srgbClr val="cc00cc"/>
                </a:solidFill>
                <a:latin typeface="Rockwell Extra Bold"/>
              </a:rPr>
              <a:t>E</a:t>
            </a:r>
            <a:r>
              <a:rPr b="0" lang="en-US" sz="7200" spc="-1" strike="noStrike">
                <a:solidFill>
                  <a:srgbClr val="b33172"/>
                </a:solidFill>
                <a:latin typeface="Rockwell Extra Bold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30322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</a:t>
            </a:r>
            <a:r>
              <a:rPr b="0" lang="zh-CN" sz="8000" spc="-1" strike="noStrike">
                <a:solidFill>
                  <a:srgbClr val="740074"/>
                </a:solidFill>
                <a:latin typeface="Times New Roman"/>
                <a:ea typeface="华文行楷"/>
              </a:rPr>
              <a:t>《青春的节拍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640080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523880" y="2514600"/>
            <a:ext cx="6035760" cy="77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523880" y="2270160"/>
            <a:ext cx="5943600" cy="244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6858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40074"/>
                </a:solidFill>
                <a:latin typeface="Times New Roman"/>
                <a:ea typeface="隶书"/>
              </a:rPr>
              <a:t>舞蹈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0" y="2362320"/>
            <a:ext cx="1828800" cy="1904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2438280" y="2590920"/>
            <a:ext cx="2057400" cy="1752480"/>
          </a:xfrm>
          <a:custGeom>
            <a:avLst/>
            <a:gdLst>
              <a:gd name="textAreaLeft" fmla="*/ 113400 w 2057400"/>
              <a:gd name="textAreaRight" fmla="*/ 1944000 w 20574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5357" h="21600">
                <a:moveTo>
                  <a:pt x="0" y="0"/>
                </a:moveTo>
                <a:lnTo>
                  <a:pt x="25357" y="0"/>
                </a:lnTo>
                <a:lnTo>
                  <a:pt x="25357" y="21600"/>
                </a:lnTo>
                <a:lnTo>
                  <a:pt x="0" y="21600"/>
                </a:lnTo>
                <a:close/>
              </a:path>
              <a:path fill="lightenLess" w="25357" h="21600">
                <a:moveTo>
                  <a:pt x="0" y="0"/>
                </a:moveTo>
                <a:lnTo>
                  <a:pt x="25357" y="0"/>
                </a:lnTo>
                <a:lnTo>
                  <a:pt x="23958" y="1400"/>
                </a:lnTo>
                <a:lnTo>
                  <a:pt x="1400" y="1400"/>
                </a:lnTo>
                <a:close/>
              </a:path>
              <a:path fill="darken" w="25357" h="21600">
                <a:moveTo>
                  <a:pt x="25357" y="0"/>
                </a:moveTo>
                <a:lnTo>
                  <a:pt x="25357" y="21600"/>
                </a:lnTo>
                <a:lnTo>
                  <a:pt x="23958" y="20200"/>
                </a:lnTo>
                <a:lnTo>
                  <a:pt x="23958" y="1400"/>
                </a:lnTo>
                <a:close/>
              </a:path>
              <a:path fill="darkenLess" w="25357" h="21600">
                <a:moveTo>
                  <a:pt x="25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58" y="20200"/>
                </a:lnTo>
                <a:close/>
              </a:path>
              <a:path fill="lighten" w="25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83808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r>
              <a:rPr b="1" lang="zh-CN" sz="4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博士咨询台</a:t>
            </a:r>
            <a:endParaRPr b="1" lang="en-US" sz="48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167616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28600" y="1979640"/>
            <a:ext cx="8686800" cy="4096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228600" y="2590920"/>
            <a:ext cx="2057400" cy="1752480"/>
          </a:xfrm>
          <a:custGeom>
            <a:avLst/>
            <a:gdLst>
              <a:gd name="textAreaLeft" fmla="*/ 113400 w 2057400"/>
              <a:gd name="textAreaRight" fmla="*/ 1944000 w 20574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5357" h="21600">
                <a:moveTo>
                  <a:pt x="0" y="0"/>
                </a:moveTo>
                <a:lnTo>
                  <a:pt x="25357" y="0"/>
                </a:lnTo>
                <a:lnTo>
                  <a:pt x="25357" y="21600"/>
                </a:lnTo>
                <a:lnTo>
                  <a:pt x="0" y="21600"/>
                </a:lnTo>
                <a:close/>
              </a:path>
              <a:path fill="lightenLess" w="25357" h="21600">
                <a:moveTo>
                  <a:pt x="0" y="0"/>
                </a:moveTo>
                <a:lnTo>
                  <a:pt x="25357" y="0"/>
                </a:lnTo>
                <a:lnTo>
                  <a:pt x="23958" y="1400"/>
                </a:lnTo>
                <a:lnTo>
                  <a:pt x="1400" y="1400"/>
                </a:lnTo>
                <a:close/>
              </a:path>
              <a:path fill="darken" w="25357" h="21600">
                <a:moveTo>
                  <a:pt x="25357" y="0"/>
                </a:moveTo>
                <a:lnTo>
                  <a:pt x="25357" y="21600"/>
                </a:lnTo>
                <a:lnTo>
                  <a:pt x="23958" y="20200"/>
                </a:lnTo>
                <a:lnTo>
                  <a:pt x="23958" y="1400"/>
                </a:lnTo>
                <a:close/>
              </a:path>
              <a:path fill="darkenLess" w="25357" h="21600">
                <a:moveTo>
                  <a:pt x="25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58" y="20200"/>
                </a:lnTo>
                <a:close/>
              </a:path>
              <a:path fill="lighten" w="25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5" action="ppaction://hlinksldjump"/>
          </p:cNvPr>
          <p:cNvSpPr/>
          <p:nvPr/>
        </p:nvSpPr>
        <p:spPr>
          <a:xfrm>
            <a:off x="6858000" y="4572000"/>
            <a:ext cx="2057400" cy="1752480"/>
          </a:xfrm>
          <a:custGeom>
            <a:avLst/>
            <a:gdLst>
              <a:gd name="textAreaLeft" fmla="*/ 113400 w 2057400"/>
              <a:gd name="textAreaRight" fmla="*/ 1944000 w 20574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5357" h="21600">
                <a:moveTo>
                  <a:pt x="0" y="0"/>
                </a:moveTo>
                <a:lnTo>
                  <a:pt x="25357" y="0"/>
                </a:lnTo>
                <a:lnTo>
                  <a:pt x="25357" y="21600"/>
                </a:lnTo>
                <a:lnTo>
                  <a:pt x="0" y="21600"/>
                </a:lnTo>
                <a:close/>
              </a:path>
              <a:path fill="lightenLess" w="25357" h="21600">
                <a:moveTo>
                  <a:pt x="0" y="0"/>
                </a:moveTo>
                <a:lnTo>
                  <a:pt x="25357" y="0"/>
                </a:lnTo>
                <a:lnTo>
                  <a:pt x="23958" y="1400"/>
                </a:lnTo>
                <a:lnTo>
                  <a:pt x="1400" y="1400"/>
                </a:lnTo>
                <a:close/>
              </a:path>
              <a:path fill="darken" w="25357" h="21600">
                <a:moveTo>
                  <a:pt x="25357" y="0"/>
                </a:moveTo>
                <a:lnTo>
                  <a:pt x="25357" y="21600"/>
                </a:lnTo>
                <a:lnTo>
                  <a:pt x="23958" y="20200"/>
                </a:lnTo>
                <a:lnTo>
                  <a:pt x="23958" y="1400"/>
                </a:lnTo>
                <a:close/>
              </a:path>
              <a:path fill="darkenLess" w="25357" h="21600">
                <a:moveTo>
                  <a:pt x="25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58" y="20200"/>
                </a:lnTo>
                <a:close/>
              </a:path>
              <a:path fill="lighten" w="25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2590920"/>
            <a:ext cx="2057400" cy="1752480"/>
          </a:xfrm>
          <a:custGeom>
            <a:avLst/>
            <a:gdLst>
              <a:gd name="textAreaLeft" fmla="*/ 113400 w 2057400"/>
              <a:gd name="textAreaRight" fmla="*/ 1944000 w 20574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5357" h="21600">
                <a:moveTo>
                  <a:pt x="0" y="0"/>
                </a:moveTo>
                <a:lnTo>
                  <a:pt x="25357" y="0"/>
                </a:lnTo>
                <a:lnTo>
                  <a:pt x="25357" y="21600"/>
                </a:lnTo>
                <a:lnTo>
                  <a:pt x="0" y="21600"/>
                </a:lnTo>
                <a:close/>
              </a:path>
              <a:path fill="lightenLess" w="25357" h="21600">
                <a:moveTo>
                  <a:pt x="0" y="0"/>
                </a:moveTo>
                <a:lnTo>
                  <a:pt x="25357" y="0"/>
                </a:lnTo>
                <a:lnTo>
                  <a:pt x="23958" y="1400"/>
                </a:lnTo>
                <a:lnTo>
                  <a:pt x="1400" y="1400"/>
                </a:lnTo>
                <a:close/>
              </a:path>
              <a:path fill="darken" w="25357" h="21600">
                <a:moveTo>
                  <a:pt x="25357" y="0"/>
                </a:moveTo>
                <a:lnTo>
                  <a:pt x="25357" y="21600"/>
                </a:lnTo>
                <a:lnTo>
                  <a:pt x="23958" y="20200"/>
                </a:lnTo>
                <a:lnTo>
                  <a:pt x="23958" y="1400"/>
                </a:lnTo>
                <a:close/>
              </a:path>
              <a:path fill="darkenLess" w="25357" h="21600">
                <a:moveTo>
                  <a:pt x="25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58" y="20200"/>
                </a:lnTo>
                <a:close/>
              </a:path>
              <a:path fill="lighten" w="25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4572000"/>
            <a:ext cx="2057400" cy="1752480"/>
          </a:xfrm>
          <a:custGeom>
            <a:avLst/>
            <a:gdLst>
              <a:gd name="textAreaLeft" fmla="*/ 113400 w 2057400"/>
              <a:gd name="textAreaRight" fmla="*/ 1944000 w 20574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5357" h="21600">
                <a:moveTo>
                  <a:pt x="0" y="0"/>
                </a:moveTo>
                <a:lnTo>
                  <a:pt x="25357" y="0"/>
                </a:lnTo>
                <a:lnTo>
                  <a:pt x="25357" y="21600"/>
                </a:lnTo>
                <a:lnTo>
                  <a:pt x="0" y="21600"/>
                </a:lnTo>
                <a:close/>
              </a:path>
              <a:path fill="lightenLess" w="25357" h="21600">
                <a:moveTo>
                  <a:pt x="0" y="0"/>
                </a:moveTo>
                <a:lnTo>
                  <a:pt x="25357" y="0"/>
                </a:lnTo>
                <a:lnTo>
                  <a:pt x="23958" y="1400"/>
                </a:lnTo>
                <a:lnTo>
                  <a:pt x="1400" y="1400"/>
                </a:lnTo>
                <a:close/>
              </a:path>
              <a:path fill="darken" w="25357" h="21600">
                <a:moveTo>
                  <a:pt x="25357" y="0"/>
                </a:moveTo>
                <a:lnTo>
                  <a:pt x="25357" y="21600"/>
                </a:lnTo>
                <a:lnTo>
                  <a:pt x="23958" y="20200"/>
                </a:lnTo>
                <a:lnTo>
                  <a:pt x="23958" y="1400"/>
                </a:lnTo>
                <a:close/>
              </a:path>
              <a:path fill="darkenLess" w="25357" h="21600">
                <a:moveTo>
                  <a:pt x="25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58" y="20200"/>
                </a:lnTo>
                <a:close/>
              </a:path>
              <a:path fill="lighten" w="25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4572000"/>
            <a:ext cx="2057400" cy="1752480"/>
          </a:xfrm>
          <a:custGeom>
            <a:avLst/>
            <a:gdLst>
              <a:gd name="textAreaLeft" fmla="*/ 113400 w 2057400"/>
              <a:gd name="textAreaRight" fmla="*/ 1944000 w 20574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5357" h="21600">
                <a:moveTo>
                  <a:pt x="0" y="0"/>
                </a:moveTo>
                <a:lnTo>
                  <a:pt x="25357" y="0"/>
                </a:lnTo>
                <a:lnTo>
                  <a:pt x="25357" y="21600"/>
                </a:lnTo>
                <a:lnTo>
                  <a:pt x="0" y="21600"/>
                </a:lnTo>
                <a:close/>
              </a:path>
              <a:path fill="lightenLess" w="25357" h="21600">
                <a:moveTo>
                  <a:pt x="0" y="0"/>
                </a:moveTo>
                <a:lnTo>
                  <a:pt x="25357" y="0"/>
                </a:lnTo>
                <a:lnTo>
                  <a:pt x="23958" y="1400"/>
                </a:lnTo>
                <a:lnTo>
                  <a:pt x="1400" y="1400"/>
                </a:lnTo>
                <a:close/>
              </a:path>
              <a:path fill="darken" w="25357" h="21600">
                <a:moveTo>
                  <a:pt x="25357" y="0"/>
                </a:moveTo>
                <a:lnTo>
                  <a:pt x="25357" y="21600"/>
                </a:lnTo>
                <a:lnTo>
                  <a:pt x="23958" y="20200"/>
                </a:lnTo>
                <a:lnTo>
                  <a:pt x="23958" y="1400"/>
                </a:lnTo>
                <a:close/>
              </a:path>
              <a:path fill="darkenLess" w="25357" h="21600">
                <a:moveTo>
                  <a:pt x="25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58" y="20200"/>
                </a:lnTo>
                <a:close/>
              </a:path>
              <a:path fill="lighten" w="25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2590920"/>
            <a:ext cx="2057400" cy="1752480"/>
          </a:xfrm>
          <a:custGeom>
            <a:avLst/>
            <a:gdLst>
              <a:gd name="textAreaLeft" fmla="*/ 113400 w 2057400"/>
              <a:gd name="textAreaRight" fmla="*/ 1944000 w 20574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5357" h="21600">
                <a:moveTo>
                  <a:pt x="0" y="0"/>
                </a:moveTo>
                <a:lnTo>
                  <a:pt x="25357" y="0"/>
                </a:lnTo>
                <a:lnTo>
                  <a:pt x="25357" y="21600"/>
                </a:lnTo>
                <a:lnTo>
                  <a:pt x="0" y="21600"/>
                </a:lnTo>
                <a:close/>
              </a:path>
              <a:path fill="lightenLess" w="25357" h="21600">
                <a:moveTo>
                  <a:pt x="0" y="0"/>
                </a:moveTo>
                <a:lnTo>
                  <a:pt x="25357" y="0"/>
                </a:lnTo>
                <a:lnTo>
                  <a:pt x="23958" y="1400"/>
                </a:lnTo>
                <a:lnTo>
                  <a:pt x="1400" y="1400"/>
                </a:lnTo>
                <a:close/>
              </a:path>
              <a:path fill="darken" w="25357" h="21600">
                <a:moveTo>
                  <a:pt x="25357" y="0"/>
                </a:moveTo>
                <a:lnTo>
                  <a:pt x="25357" y="21600"/>
                </a:lnTo>
                <a:lnTo>
                  <a:pt x="23958" y="20200"/>
                </a:lnTo>
                <a:lnTo>
                  <a:pt x="23958" y="1400"/>
                </a:lnTo>
                <a:close/>
              </a:path>
              <a:path fill="darkenLess" w="25357" h="21600">
                <a:moveTo>
                  <a:pt x="25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58" y="20200"/>
                </a:lnTo>
                <a:close/>
              </a:path>
              <a:path fill="lighten" w="25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4572000"/>
            <a:ext cx="2057400" cy="1752480"/>
          </a:xfrm>
          <a:custGeom>
            <a:avLst/>
            <a:gdLst>
              <a:gd name="textAreaLeft" fmla="*/ 113400 w 2057400"/>
              <a:gd name="textAreaRight" fmla="*/ 1944000 w 20574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5357" h="21600">
                <a:moveTo>
                  <a:pt x="0" y="0"/>
                </a:moveTo>
                <a:lnTo>
                  <a:pt x="25357" y="0"/>
                </a:lnTo>
                <a:lnTo>
                  <a:pt x="25357" y="21600"/>
                </a:lnTo>
                <a:lnTo>
                  <a:pt x="0" y="21600"/>
                </a:lnTo>
                <a:close/>
              </a:path>
              <a:path fill="lightenLess" w="25357" h="21600">
                <a:moveTo>
                  <a:pt x="0" y="0"/>
                </a:moveTo>
                <a:lnTo>
                  <a:pt x="25357" y="0"/>
                </a:lnTo>
                <a:lnTo>
                  <a:pt x="23958" y="1400"/>
                </a:lnTo>
                <a:lnTo>
                  <a:pt x="1400" y="1400"/>
                </a:lnTo>
                <a:close/>
              </a:path>
              <a:path fill="darken" w="25357" h="21600">
                <a:moveTo>
                  <a:pt x="25357" y="0"/>
                </a:moveTo>
                <a:lnTo>
                  <a:pt x="25357" y="21600"/>
                </a:lnTo>
                <a:lnTo>
                  <a:pt x="23958" y="20200"/>
                </a:lnTo>
                <a:lnTo>
                  <a:pt x="23958" y="1400"/>
                </a:lnTo>
                <a:close/>
              </a:path>
              <a:path fill="darkenLess" w="25357" h="21600">
                <a:moveTo>
                  <a:pt x="25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58" y="20200"/>
                </a:lnTo>
                <a:close/>
              </a:path>
              <a:path fill="lighten" w="25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019920" y="457200"/>
            <a:ext cx="2590560" cy="1379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259092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268272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紧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52080" y="2743200"/>
            <a:ext cx="91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心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66688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466416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33"/>
                </a:solidFill>
                <a:latin typeface="Times New Roman"/>
              </a:rPr>
              <a:t>厌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464832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cc"/>
                </a:solidFill>
                <a:latin typeface="Times New Roman"/>
              </a:rPr>
              <a:t>人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466416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压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464832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228600"/>
            <a:ext cx="2743200" cy="533520"/>
          </a:xfrm>
          <a:custGeom>
            <a:avLst/>
            <a:gdLst>
              <a:gd name="textAreaLeft" fmla="*/ 34560 w 2743200"/>
              <a:gd name="textAreaRight" fmla="*/ 2708640 w 2743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11000" h="21600">
                <a:moveTo>
                  <a:pt x="0" y="0"/>
                </a:moveTo>
                <a:lnTo>
                  <a:pt x="111000" y="0"/>
                </a:lnTo>
                <a:lnTo>
                  <a:pt x="111000" y="21600"/>
                </a:lnTo>
                <a:lnTo>
                  <a:pt x="0" y="21600"/>
                </a:lnTo>
                <a:close/>
              </a:path>
              <a:path fill="lightenLess" w="111000" h="21600">
                <a:moveTo>
                  <a:pt x="0" y="0"/>
                </a:moveTo>
                <a:lnTo>
                  <a:pt x="111000" y="0"/>
                </a:lnTo>
                <a:lnTo>
                  <a:pt x="109600" y="1400"/>
                </a:lnTo>
                <a:lnTo>
                  <a:pt x="1400" y="1400"/>
                </a:lnTo>
                <a:close/>
              </a:path>
              <a:path fill="darken" w="111000" h="21600">
                <a:moveTo>
                  <a:pt x="111000" y="0"/>
                </a:moveTo>
                <a:lnTo>
                  <a:pt x="111000" y="21600"/>
                </a:lnTo>
                <a:lnTo>
                  <a:pt x="109600" y="20200"/>
                </a:lnTo>
                <a:lnTo>
                  <a:pt x="109600" y="1400"/>
                </a:lnTo>
                <a:close/>
              </a:path>
              <a:path fill="darkenLess" w="111000" h="21600">
                <a:moveTo>
                  <a:pt x="111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600" y="20200"/>
                </a:lnTo>
                <a:close/>
              </a:path>
              <a:path fill="lighten" w="111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000" h="21600">
                <a:moveTo>
                  <a:pt x="55500" y="3837"/>
                </a:moveTo>
                <a:lnTo>
                  <a:pt x="58076" y="6448"/>
                </a:lnTo>
                <a:lnTo>
                  <a:pt x="58076" y="4707"/>
                </a:lnTo>
                <a:lnTo>
                  <a:pt x="59852" y="4707"/>
                </a:lnTo>
                <a:lnTo>
                  <a:pt x="59852" y="8224"/>
                </a:lnTo>
                <a:lnTo>
                  <a:pt x="62463" y="10800"/>
                </a:lnTo>
                <a:lnTo>
                  <a:pt x="60809" y="10800"/>
                </a:lnTo>
                <a:lnTo>
                  <a:pt x="60809" y="17989"/>
                </a:lnTo>
                <a:lnTo>
                  <a:pt x="50191" y="17989"/>
                </a:lnTo>
                <a:lnTo>
                  <a:pt x="50191" y="10800"/>
                </a:lnTo>
                <a:lnTo>
                  <a:pt x="48537" y="10800"/>
                </a:lnTo>
                <a:close/>
              </a:path>
              <a:path fill="darkenLess" w="111000" h="21600">
                <a:moveTo>
                  <a:pt x="58076" y="6448"/>
                </a:moveTo>
                <a:lnTo>
                  <a:pt x="58076" y="4707"/>
                </a:lnTo>
                <a:lnTo>
                  <a:pt x="59852" y="4707"/>
                </a:lnTo>
                <a:lnTo>
                  <a:pt x="59852" y="8224"/>
                </a:lnTo>
                <a:close/>
              </a:path>
              <a:path fill="darkenLess" w="111000" h="21600">
                <a:moveTo>
                  <a:pt x="54578" y="14299"/>
                </a:moveTo>
                <a:lnTo>
                  <a:pt x="56423" y="14299"/>
                </a:lnTo>
                <a:lnTo>
                  <a:pt x="56423" y="17989"/>
                </a:lnTo>
                <a:lnTo>
                  <a:pt x="60809" y="17989"/>
                </a:lnTo>
                <a:lnTo>
                  <a:pt x="60809" y="10800"/>
                </a:lnTo>
                <a:lnTo>
                  <a:pt x="50191" y="10800"/>
                </a:lnTo>
                <a:lnTo>
                  <a:pt x="50191" y="17989"/>
                </a:lnTo>
                <a:lnTo>
                  <a:pt x="54578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010280" y="2657520"/>
            <a:ext cx="1143000" cy="2288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小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90200" y="1752480"/>
            <a:ext cx="2618280" cy="46483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cc"/>
                </a:solidFill>
                <a:latin typeface="Times New Roman"/>
                <a:ea typeface="隶书"/>
              </a:rPr>
              <a:t>两代之间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472428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4343400" cy="4267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8128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867280" y="0"/>
            <a:ext cx="32767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505320" y="0"/>
            <a:ext cx="2209680" cy="1676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676520"/>
            <a:ext cx="9144000" cy="916920"/>
          </a:xfrm>
          <a:prstGeom prst="rect">
            <a:avLst/>
          </a:prstGeom>
          <a:solidFill>
            <a:srgbClr val="99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cc"/>
                </a:solidFill>
                <a:latin typeface="Times New Roman"/>
                <a:ea typeface="华文行楷"/>
              </a:rPr>
              <a:t>沟通是开启心灵之锁的金钥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7696080" y="5562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0" y="3581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1:12:3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42:35Z</dcterms:modified>
  <cp:revision>112</cp:revision>
  <dc:subject>主题班会课件(分28大类): http://shop62905894.taobao.com</dc:subject>
  <dc:title>主题班会课件(分28大类): http://shop62905894.taobao.com</dc:title>
</cp:coreProperties>
</file>